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C91-45D0-4E6F-94DA-A433F68A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F38-5814-474C-B36E-4460D1DB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F62-2C07-4989-A719-A4DDCE35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737-9DC9-48C5-9167-2B6564C0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F68-21B5-4B58-A8B6-D2852F6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B82-0C36-4369-AB7F-CE09E6CF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470-47BF-44CA-83FA-70F59D1A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CF8-D457-4C84-A056-B81E224C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D5F-9F07-4231-AF44-4935B94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26C-2749-4522-B2BF-DD59804C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338-0BF9-4D22-A5CC-E30558A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121-6502-48EA-BB10-8A2294CD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FFE11-3217-4160-9A72-3C4946CC444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7B861-3802-4270-947F-58BCFBB144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4520" y="58680"/>
            <a:ext cx="5032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595959"/>
                </a:solidFill>
                <a:latin typeface="Arial"/>
              </a:rPr>
              <a:t>CCL: 2014, G Setchell, Chilcote Primary Schoo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anacademy.org/computer-programming/binary-graphics-3-bit/100867675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hilcote 3D.jpg"/>
          <p:cNvPicPr/>
          <p:nvPr/>
        </p:nvPicPr>
        <p:blipFill>
          <a:blip r:embed="rId1"/>
          <a:stretch/>
        </p:blipFill>
        <p:spPr>
          <a:xfrm rot="319200">
            <a:off x="5338440" y="760320"/>
            <a:ext cx="1789200" cy="2224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955880" y="577800"/>
            <a:ext cx="4707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BINARY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SPRITE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DESIGN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955880" y="4267080"/>
            <a:ext cx="712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g the 1s or 0s onto the grid to make an 8 x 8 spr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want to make a change, just drag another square over the t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m each row to find the denary number for the file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the answer in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mold001.jpg"/>
          <p:cNvPicPr/>
          <p:nvPr/>
        </p:nvPicPr>
        <p:blipFill>
          <a:blip r:embed="rId2"/>
          <a:srcRect l="24842" t="11887" r="24739" b="14856"/>
          <a:stretch/>
        </p:blipFill>
        <p:spPr>
          <a:xfrm>
            <a:off x="6873840" y="2879640"/>
            <a:ext cx="1055880" cy="84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old001.jpg"/>
          <p:cNvPicPr/>
          <p:nvPr/>
        </p:nvPicPr>
        <p:blipFill>
          <a:blip r:embed="rId3"/>
          <a:srcRect l="24842" t="11887" r="24739" b="14856"/>
          <a:stretch/>
        </p:blipFill>
        <p:spPr>
          <a:xfrm>
            <a:off x="227160" y="1646280"/>
            <a:ext cx="1055520" cy="84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old001.jpg"/>
          <p:cNvPicPr/>
          <p:nvPr/>
        </p:nvPicPr>
        <p:blipFill>
          <a:blip r:embed="rId4"/>
          <a:srcRect l="24842" t="11887" r="24739" b="14856"/>
          <a:stretch/>
        </p:blipFill>
        <p:spPr>
          <a:xfrm>
            <a:off x="900000" y="3301920"/>
            <a:ext cx="749520" cy="59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mold001.jpg"/>
          <p:cNvPicPr/>
          <p:nvPr/>
        </p:nvPicPr>
        <p:blipFill>
          <a:blip r:embed="rId5"/>
          <a:srcRect l="24842" t="11887" r="24739" b="14856"/>
          <a:stretch/>
        </p:blipFill>
        <p:spPr>
          <a:xfrm>
            <a:off x="5506920" y="3951360"/>
            <a:ext cx="75096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mold001.jpg"/>
          <p:cNvPicPr/>
          <p:nvPr/>
        </p:nvPicPr>
        <p:blipFill>
          <a:blip r:embed="rId6"/>
          <a:srcRect l="24842" t="11887" r="24739" b="14856"/>
          <a:stretch/>
        </p:blipFill>
        <p:spPr>
          <a:xfrm>
            <a:off x="7575480" y="1208160"/>
            <a:ext cx="54612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mold001.jpg"/>
          <p:cNvPicPr/>
          <p:nvPr/>
        </p:nvPicPr>
        <p:blipFill>
          <a:blip r:embed="rId7"/>
          <a:srcRect l="24842" t="11887" r="32099" b="14856"/>
          <a:stretch/>
        </p:blipFill>
        <p:spPr>
          <a:xfrm>
            <a:off x="8121600" y="4251240"/>
            <a:ext cx="1022400" cy="95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mold001.jpg"/>
          <p:cNvPicPr/>
          <p:nvPr/>
        </p:nvPicPr>
        <p:blipFill>
          <a:blip r:embed="rId8"/>
          <a:srcRect l="24842" t="11887" r="24739" b="14856"/>
          <a:stretch/>
        </p:blipFill>
        <p:spPr>
          <a:xfrm>
            <a:off x="1282680" y="577800"/>
            <a:ext cx="735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mold001.jpg"/>
          <p:cNvPicPr/>
          <p:nvPr/>
        </p:nvPicPr>
        <p:blipFill>
          <a:blip r:embed="rId9"/>
          <a:srcRect l="35480" t="11887" r="24739" b="26581"/>
          <a:stretch/>
        </p:blipFill>
        <p:spPr>
          <a:xfrm>
            <a:off x="0" y="5627520"/>
            <a:ext cx="14428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mold001.jpg"/>
          <p:cNvPicPr/>
          <p:nvPr/>
        </p:nvPicPr>
        <p:blipFill>
          <a:blip r:embed="rId10"/>
          <a:srcRect l="24842" t="11887" r="24739" b="14856"/>
          <a:stretch/>
        </p:blipFill>
        <p:spPr>
          <a:xfrm>
            <a:off x="6056280" y="5634000"/>
            <a:ext cx="1214640" cy="9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old001.jpg"/>
          <p:cNvPicPr/>
          <p:nvPr/>
        </p:nvPicPr>
        <p:blipFill>
          <a:blip r:embed="rId11"/>
          <a:srcRect l="24842" t="36423" r="24739" b="14856"/>
          <a:stretch/>
        </p:blipFill>
        <p:spPr>
          <a:xfrm>
            <a:off x="3486240" y="0"/>
            <a:ext cx="128088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mold001.jpg"/>
          <p:cNvPicPr/>
          <p:nvPr/>
        </p:nvPicPr>
        <p:blipFill>
          <a:blip r:embed="rId12"/>
          <a:srcRect l="24842" t="11887" r="24739" b="14856"/>
          <a:stretch/>
        </p:blipFill>
        <p:spPr>
          <a:xfrm>
            <a:off x="2868480" y="6005520"/>
            <a:ext cx="551160" cy="44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old001.jpg"/>
          <p:cNvPicPr/>
          <p:nvPr/>
        </p:nvPicPr>
        <p:blipFill>
          <a:blip r:embed="rId13"/>
          <a:srcRect l="24842" t="11887" r="24739" b="14856"/>
          <a:stretch/>
        </p:blipFill>
        <p:spPr>
          <a:xfrm>
            <a:off x="8121600" y="566640"/>
            <a:ext cx="7495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31"/>
          <p:cNvSpPr/>
          <p:nvPr/>
        </p:nvSpPr>
        <p:spPr>
          <a:xfrm>
            <a:off x="6369120" y="488628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532"/>
          <p:cNvSpPr/>
          <p:nvPr/>
        </p:nvSpPr>
        <p:spPr>
          <a:xfrm>
            <a:off x="637704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533"/>
          <p:cNvSpPr/>
          <p:nvPr/>
        </p:nvSpPr>
        <p:spPr>
          <a:xfrm>
            <a:off x="569592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534"/>
          <p:cNvSpPr/>
          <p:nvPr/>
        </p:nvSpPr>
        <p:spPr>
          <a:xfrm>
            <a:off x="639432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35"/>
          <p:cNvSpPr/>
          <p:nvPr/>
        </p:nvSpPr>
        <p:spPr>
          <a:xfrm>
            <a:off x="569592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536"/>
          <p:cNvSpPr/>
          <p:nvPr/>
        </p:nvSpPr>
        <p:spPr>
          <a:xfrm>
            <a:off x="4976640" y="344484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537"/>
          <p:cNvSpPr/>
          <p:nvPr/>
        </p:nvSpPr>
        <p:spPr>
          <a:xfrm>
            <a:off x="5657760" y="560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538"/>
          <p:cNvSpPr/>
          <p:nvPr/>
        </p:nvSpPr>
        <p:spPr>
          <a:xfrm>
            <a:off x="4937040" y="560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539"/>
          <p:cNvSpPr/>
          <p:nvPr/>
        </p:nvSpPr>
        <p:spPr>
          <a:xfrm>
            <a:off x="4937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540"/>
          <p:cNvSpPr/>
          <p:nvPr/>
        </p:nvSpPr>
        <p:spPr>
          <a:xfrm>
            <a:off x="4213080" y="560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541"/>
          <p:cNvSpPr/>
          <p:nvPr/>
        </p:nvSpPr>
        <p:spPr>
          <a:xfrm>
            <a:off x="4280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542"/>
          <p:cNvSpPr/>
          <p:nvPr/>
        </p:nvSpPr>
        <p:spPr>
          <a:xfrm>
            <a:off x="3535200" y="560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543"/>
          <p:cNvSpPr/>
          <p:nvPr/>
        </p:nvSpPr>
        <p:spPr>
          <a:xfrm>
            <a:off x="3560760" y="488628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544"/>
          <p:cNvSpPr/>
          <p:nvPr/>
        </p:nvSpPr>
        <p:spPr>
          <a:xfrm>
            <a:off x="2840040" y="560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545"/>
          <p:cNvSpPr/>
          <p:nvPr/>
        </p:nvSpPr>
        <p:spPr>
          <a:xfrm>
            <a:off x="2120760" y="560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546"/>
          <p:cNvSpPr/>
          <p:nvPr/>
        </p:nvSpPr>
        <p:spPr>
          <a:xfrm>
            <a:off x="2840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547"/>
          <p:cNvSpPr/>
          <p:nvPr/>
        </p:nvSpPr>
        <p:spPr>
          <a:xfrm>
            <a:off x="209556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548"/>
          <p:cNvSpPr/>
          <p:nvPr/>
        </p:nvSpPr>
        <p:spPr>
          <a:xfrm>
            <a:off x="1400040" y="488628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549"/>
          <p:cNvSpPr/>
          <p:nvPr/>
        </p:nvSpPr>
        <p:spPr>
          <a:xfrm>
            <a:off x="284004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550"/>
          <p:cNvSpPr/>
          <p:nvPr/>
        </p:nvSpPr>
        <p:spPr>
          <a:xfrm>
            <a:off x="2120760" y="344484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551"/>
          <p:cNvSpPr/>
          <p:nvPr/>
        </p:nvSpPr>
        <p:spPr>
          <a:xfrm>
            <a:off x="1400040" y="416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552"/>
          <p:cNvSpPr/>
          <p:nvPr/>
        </p:nvSpPr>
        <p:spPr>
          <a:xfrm>
            <a:off x="6377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553"/>
          <p:cNvSpPr/>
          <p:nvPr/>
        </p:nvSpPr>
        <p:spPr>
          <a:xfrm>
            <a:off x="5657760" y="272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554"/>
          <p:cNvSpPr/>
          <p:nvPr/>
        </p:nvSpPr>
        <p:spPr>
          <a:xfrm>
            <a:off x="4280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55"/>
          <p:cNvSpPr/>
          <p:nvPr/>
        </p:nvSpPr>
        <p:spPr>
          <a:xfrm>
            <a:off x="3560760" y="272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56"/>
          <p:cNvSpPr/>
          <p:nvPr/>
        </p:nvSpPr>
        <p:spPr>
          <a:xfrm>
            <a:off x="2120760" y="27255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557"/>
          <p:cNvSpPr/>
          <p:nvPr/>
        </p:nvSpPr>
        <p:spPr>
          <a:xfrm>
            <a:off x="4937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558"/>
          <p:cNvSpPr/>
          <p:nvPr/>
        </p:nvSpPr>
        <p:spPr>
          <a:xfrm>
            <a:off x="2840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559"/>
          <p:cNvSpPr/>
          <p:nvPr/>
        </p:nvSpPr>
        <p:spPr>
          <a:xfrm>
            <a:off x="6377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560"/>
          <p:cNvSpPr/>
          <p:nvPr/>
        </p:nvSpPr>
        <p:spPr>
          <a:xfrm>
            <a:off x="4937040" y="12906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561"/>
          <p:cNvSpPr/>
          <p:nvPr/>
        </p:nvSpPr>
        <p:spPr>
          <a:xfrm>
            <a:off x="5657760" y="127476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562"/>
          <p:cNvSpPr/>
          <p:nvPr/>
        </p:nvSpPr>
        <p:spPr>
          <a:xfrm>
            <a:off x="2840040" y="1285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563"/>
          <p:cNvSpPr/>
          <p:nvPr/>
        </p:nvSpPr>
        <p:spPr>
          <a:xfrm>
            <a:off x="2120760" y="128592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564"/>
          <p:cNvSpPr/>
          <p:nvPr/>
        </p:nvSpPr>
        <p:spPr>
          <a:xfrm>
            <a:off x="1400040" y="344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65"/>
          <p:cNvSpPr/>
          <p:nvPr/>
        </p:nvSpPr>
        <p:spPr>
          <a:xfrm>
            <a:off x="1400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566"/>
          <p:cNvSpPr/>
          <p:nvPr/>
        </p:nvSpPr>
        <p:spPr>
          <a:xfrm>
            <a:off x="1400040" y="200484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567"/>
          <p:cNvSpPr/>
          <p:nvPr/>
        </p:nvSpPr>
        <p:spPr>
          <a:xfrm>
            <a:off x="1400040" y="1285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568"/>
          <p:cNvSpPr/>
          <p:nvPr/>
        </p:nvSpPr>
        <p:spPr>
          <a:xfrm>
            <a:off x="4218120" y="56520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569"/>
          <p:cNvSpPr/>
          <p:nvPr/>
        </p:nvSpPr>
        <p:spPr>
          <a:xfrm>
            <a:off x="349740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570"/>
          <p:cNvSpPr/>
          <p:nvPr/>
        </p:nvSpPr>
        <p:spPr>
          <a:xfrm>
            <a:off x="493704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571"/>
          <p:cNvSpPr/>
          <p:nvPr/>
        </p:nvSpPr>
        <p:spPr>
          <a:xfrm>
            <a:off x="284004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572"/>
          <p:cNvSpPr/>
          <p:nvPr/>
        </p:nvSpPr>
        <p:spPr>
          <a:xfrm>
            <a:off x="6364440" y="571680"/>
            <a:ext cx="71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73"/>
          <p:cNvSpPr/>
          <p:nvPr/>
        </p:nvSpPr>
        <p:spPr>
          <a:xfrm>
            <a:off x="1400040" y="56520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585"/>
          <p:cNvSpPr/>
          <p:nvPr/>
        </p:nvSpPr>
        <p:spPr>
          <a:xfrm>
            <a:off x="67366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586"/>
          <p:cNvSpPr/>
          <p:nvPr/>
        </p:nvSpPr>
        <p:spPr>
          <a:xfrm>
            <a:off x="60112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588"/>
          <p:cNvSpPr/>
          <p:nvPr/>
        </p:nvSpPr>
        <p:spPr>
          <a:xfrm>
            <a:off x="52966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589"/>
          <p:cNvSpPr/>
          <p:nvPr/>
        </p:nvSpPr>
        <p:spPr>
          <a:xfrm>
            <a:off x="4612680" y="196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590"/>
          <p:cNvSpPr/>
          <p:nvPr/>
        </p:nvSpPr>
        <p:spPr>
          <a:xfrm>
            <a:off x="380232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591"/>
          <p:cNvSpPr/>
          <p:nvPr/>
        </p:nvSpPr>
        <p:spPr>
          <a:xfrm>
            <a:off x="307512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592"/>
          <p:cNvSpPr/>
          <p:nvPr/>
        </p:nvSpPr>
        <p:spPr>
          <a:xfrm>
            <a:off x="2400480" y="196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593"/>
          <p:cNvSpPr/>
          <p:nvPr/>
        </p:nvSpPr>
        <p:spPr>
          <a:xfrm>
            <a:off x="1588320" y="1969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Box 1085"/>
          <p:cNvSpPr/>
          <p:nvPr/>
        </p:nvSpPr>
        <p:spPr>
          <a:xfrm>
            <a:off x="2120760" y="272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Box 1086"/>
          <p:cNvSpPr/>
          <p:nvPr/>
        </p:nvSpPr>
        <p:spPr>
          <a:xfrm>
            <a:off x="3540240" y="272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Box 1087"/>
          <p:cNvSpPr/>
          <p:nvPr/>
        </p:nvSpPr>
        <p:spPr>
          <a:xfrm>
            <a:off x="2840040" y="416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Box 1088"/>
          <p:cNvSpPr/>
          <p:nvPr/>
        </p:nvSpPr>
        <p:spPr>
          <a:xfrm>
            <a:off x="1400040" y="560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Box 1089"/>
          <p:cNvSpPr/>
          <p:nvPr/>
        </p:nvSpPr>
        <p:spPr>
          <a:xfrm>
            <a:off x="2120760" y="488628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Box 1090"/>
          <p:cNvSpPr/>
          <p:nvPr/>
        </p:nvSpPr>
        <p:spPr>
          <a:xfrm>
            <a:off x="3560760" y="416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Box 1091"/>
          <p:cNvSpPr/>
          <p:nvPr/>
        </p:nvSpPr>
        <p:spPr>
          <a:xfrm>
            <a:off x="4280040" y="416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Box 1092"/>
          <p:cNvSpPr/>
          <p:nvPr/>
        </p:nvSpPr>
        <p:spPr>
          <a:xfrm>
            <a:off x="6369120" y="560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Box 1093"/>
          <p:cNvSpPr/>
          <p:nvPr/>
        </p:nvSpPr>
        <p:spPr>
          <a:xfrm>
            <a:off x="5657760" y="488628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1094"/>
          <p:cNvSpPr/>
          <p:nvPr/>
        </p:nvSpPr>
        <p:spPr>
          <a:xfrm>
            <a:off x="4976640" y="416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1095"/>
          <p:cNvSpPr/>
          <p:nvPr/>
        </p:nvSpPr>
        <p:spPr>
          <a:xfrm>
            <a:off x="4255920" y="344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1096"/>
          <p:cNvSpPr/>
          <p:nvPr/>
        </p:nvSpPr>
        <p:spPr>
          <a:xfrm>
            <a:off x="3535200" y="344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Box 1097"/>
          <p:cNvSpPr/>
          <p:nvPr/>
        </p:nvSpPr>
        <p:spPr>
          <a:xfrm>
            <a:off x="4929120" y="27255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Box 1098"/>
          <p:cNvSpPr/>
          <p:nvPr/>
        </p:nvSpPr>
        <p:spPr>
          <a:xfrm>
            <a:off x="2816280" y="272556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1099"/>
          <p:cNvSpPr/>
          <p:nvPr/>
        </p:nvSpPr>
        <p:spPr>
          <a:xfrm>
            <a:off x="4218120" y="200484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Box 1100"/>
          <p:cNvSpPr/>
          <p:nvPr/>
        </p:nvSpPr>
        <p:spPr>
          <a:xfrm>
            <a:off x="349740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Box 1101"/>
          <p:cNvSpPr/>
          <p:nvPr/>
        </p:nvSpPr>
        <p:spPr>
          <a:xfrm>
            <a:off x="564840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102"/>
          <p:cNvSpPr/>
          <p:nvPr/>
        </p:nvSpPr>
        <p:spPr>
          <a:xfrm>
            <a:off x="1400040" y="272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Box 1103"/>
          <p:cNvSpPr/>
          <p:nvPr/>
        </p:nvSpPr>
        <p:spPr>
          <a:xfrm>
            <a:off x="4213080" y="128592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Box 1104"/>
          <p:cNvSpPr/>
          <p:nvPr/>
        </p:nvSpPr>
        <p:spPr>
          <a:xfrm>
            <a:off x="3497400" y="1285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Box 1105"/>
          <p:cNvSpPr/>
          <p:nvPr/>
        </p:nvSpPr>
        <p:spPr>
          <a:xfrm>
            <a:off x="6373800" y="1285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Box 1106"/>
          <p:cNvSpPr/>
          <p:nvPr/>
        </p:nvSpPr>
        <p:spPr>
          <a:xfrm>
            <a:off x="1400040" y="200484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Box 1108"/>
          <p:cNvSpPr/>
          <p:nvPr/>
        </p:nvSpPr>
        <p:spPr>
          <a:xfrm>
            <a:off x="2087640" y="1290600"/>
            <a:ext cx="718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Box 1113"/>
          <p:cNvSpPr/>
          <p:nvPr/>
        </p:nvSpPr>
        <p:spPr>
          <a:xfrm>
            <a:off x="7452360" y="201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Box 1114"/>
          <p:cNvSpPr/>
          <p:nvPr/>
        </p:nvSpPr>
        <p:spPr>
          <a:xfrm>
            <a:off x="7503480" y="7174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3 (32 + 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Box 1109"/>
          <p:cNvSpPr/>
          <p:nvPr/>
        </p:nvSpPr>
        <p:spPr>
          <a:xfrm>
            <a:off x="2120760" y="201132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Box 1110"/>
          <p:cNvSpPr/>
          <p:nvPr/>
        </p:nvSpPr>
        <p:spPr>
          <a:xfrm>
            <a:off x="1400040" y="27255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Box 1111"/>
          <p:cNvSpPr/>
          <p:nvPr/>
        </p:nvSpPr>
        <p:spPr>
          <a:xfrm>
            <a:off x="5648400" y="272556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Box 1112"/>
          <p:cNvSpPr/>
          <p:nvPr/>
        </p:nvSpPr>
        <p:spPr>
          <a:xfrm>
            <a:off x="5646600" y="20001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Box 1115"/>
          <p:cNvSpPr/>
          <p:nvPr/>
        </p:nvSpPr>
        <p:spPr>
          <a:xfrm>
            <a:off x="6373800" y="20113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Box 1116"/>
          <p:cNvSpPr/>
          <p:nvPr/>
        </p:nvSpPr>
        <p:spPr>
          <a:xfrm>
            <a:off x="5657760" y="56664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Box 1117"/>
          <p:cNvSpPr/>
          <p:nvPr/>
        </p:nvSpPr>
        <p:spPr>
          <a:xfrm>
            <a:off x="2120760" y="571680"/>
            <a:ext cx="71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Box 1108"/>
          <p:cNvSpPr/>
          <p:nvPr/>
        </p:nvSpPr>
        <p:spPr>
          <a:xfrm>
            <a:off x="2782800" y="576360"/>
            <a:ext cx="719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Box 1105"/>
          <p:cNvSpPr/>
          <p:nvPr/>
        </p:nvSpPr>
        <p:spPr>
          <a:xfrm>
            <a:off x="6373800" y="57168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3" name="Group 909"/>
          <p:cNvGrpSpPr/>
          <p:nvPr/>
        </p:nvGrpSpPr>
        <p:grpSpPr>
          <a:xfrm>
            <a:off x="1686600" y="196920"/>
            <a:ext cx="6613920" cy="372960"/>
            <a:chOff x="1686600" y="196920"/>
            <a:chExt cx="6613920" cy="372960"/>
          </a:xfrm>
        </p:grpSpPr>
        <p:sp>
          <p:nvSpPr>
            <p:cNvPr id="1854" name="TextBox 585"/>
            <p:cNvSpPr/>
            <p:nvPr/>
          </p:nvSpPr>
          <p:spPr>
            <a:xfrm>
              <a:off x="6845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TextBox 586"/>
            <p:cNvSpPr/>
            <p:nvPr/>
          </p:nvSpPr>
          <p:spPr>
            <a:xfrm>
              <a:off x="6098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TextBox 588"/>
            <p:cNvSpPr/>
            <p:nvPr/>
          </p:nvSpPr>
          <p:spPr>
            <a:xfrm>
              <a:off x="542700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TextBox 589"/>
            <p:cNvSpPr/>
            <p:nvPr/>
          </p:nvSpPr>
          <p:spPr>
            <a:xfrm>
              <a:off x="4739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Box 590"/>
            <p:cNvSpPr/>
            <p:nvPr/>
          </p:nvSpPr>
          <p:spPr>
            <a:xfrm>
              <a:off x="39438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TextBox 591"/>
            <p:cNvSpPr/>
            <p:nvPr/>
          </p:nvSpPr>
          <p:spPr>
            <a:xfrm>
              <a:off x="3227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TextBox 592"/>
            <p:cNvSpPr/>
            <p:nvPr/>
          </p:nvSpPr>
          <p:spPr>
            <a:xfrm>
              <a:off x="2498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TextBox 593"/>
            <p:cNvSpPr/>
            <p:nvPr/>
          </p:nvSpPr>
          <p:spPr>
            <a:xfrm>
              <a:off x="1686600" y="1969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TextBox 1113"/>
            <p:cNvSpPr/>
            <p:nvPr/>
          </p:nvSpPr>
          <p:spPr>
            <a:xfrm>
              <a:off x="7452360" y="20160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n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3" name="TextBox 1114"/>
          <p:cNvSpPr/>
          <p:nvPr/>
        </p:nvSpPr>
        <p:spPr>
          <a:xfrm>
            <a:off x="75034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Box 902"/>
          <p:cNvSpPr/>
          <p:nvPr/>
        </p:nvSpPr>
        <p:spPr>
          <a:xfrm>
            <a:off x="1927080" y="644508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YPE SPRITE NAM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Picture 4" descr="Chilcote 3D.jpg"/>
          <p:cNvPicPr/>
          <p:nvPr/>
        </p:nvPicPr>
        <p:blipFill>
          <a:blip r:embed="rId1"/>
          <a:stretch/>
        </p:blipFill>
        <p:spPr>
          <a:xfrm rot="319200">
            <a:off x="5338440" y="760320"/>
            <a:ext cx="1789200" cy="2224080"/>
          </a:xfrm>
          <a:prstGeom prst="rect">
            <a:avLst/>
          </a:prstGeom>
          <a:ln w="0">
            <a:noFill/>
          </a:ln>
        </p:spPr>
      </p:pic>
      <p:sp>
        <p:nvSpPr>
          <p:cNvPr id="1875" name="TextBox 5"/>
          <p:cNvSpPr/>
          <p:nvPr/>
        </p:nvSpPr>
        <p:spPr>
          <a:xfrm>
            <a:off x="1955880" y="577800"/>
            <a:ext cx="4707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BINARY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SPRITE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666666"/>
                </a:solidFill>
                <a:latin typeface="Calibri"/>
              </a:rPr>
              <a:t>DESIGN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TextBox 6"/>
          <p:cNvSpPr/>
          <p:nvPr/>
        </p:nvSpPr>
        <p:spPr>
          <a:xfrm>
            <a:off x="1805040" y="4251240"/>
            <a:ext cx="577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hallen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y creating a larger grid with more 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out colour sprites. How does this work?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khanacademy.org/computer-programming/binary-graphics-3-bit/10086767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7" name="Picture 8" descr="mold001.jpg"/>
          <p:cNvPicPr/>
          <p:nvPr/>
        </p:nvPicPr>
        <p:blipFill>
          <a:blip r:embed="rId3"/>
          <a:srcRect l="24842" t="11887" r="24739" b="14856"/>
          <a:stretch/>
        </p:blipFill>
        <p:spPr>
          <a:xfrm>
            <a:off x="6873840" y="2879640"/>
            <a:ext cx="1055880" cy="84456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9" descr="mold001.jpg"/>
          <p:cNvPicPr/>
          <p:nvPr/>
        </p:nvPicPr>
        <p:blipFill>
          <a:blip r:embed="rId4"/>
          <a:srcRect l="24842" t="11887" r="24739" b="14856"/>
          <a:stretch/>
        </p:blipFill>
        <p:spPr>
          <a:xfrm>
            <a:off x="227160" y="1646280"/>
            <a:ext cx="1055520" cy="84456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10" descr="mold001.jpg"/>
          <p:cNvPicPr/>
          <p:nvPr/>
        </p:nvPicPr>
        <p:blipFill>
          <a:blip r:embed="rId5"/>
          <a:srcRect l="24842" t="11887" r="24739" b="14856"/>
          <a:stretch/>
        </p:blipFill>
        <p:spPr>
          <a:xfrm>
            <a:off x="900000" y="3301920"/>
            <a:ext cx="749520" cy="59868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11" descr="mold001.jpg"/>
          <p:cNvPicPr/>
          <p:nvPr/>
        </p:nvPicPr>
        <p:blipFill>
          <a:blip r:embed="rId6"/>
          <a:srcRect l="24842" t="11887" r="24739" b="14856"/>
          <a:stretch/>
        </p:blipFill>
        <p:spPr>
          <a:xfrm>
            <a:off x="5506920" y="3951360"/>
            <a:ext cx="750960" cy="60012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12" descr="mold001.jpg"/>
          <p:cNvPicPr/>
          <p:nvPr/>
        </p:nvPicPr>
        <p:blipFill>
          <a:blip r:embed="rId7"/>
          <a:srcRect l="24842" t="11887" r="24739" b="14856"/>
          <a:stretch/>
        </p:blipFill>
        <p:spPr>
          <a:xfrm>
            <a:off x="7575480" y="1208160"/>
            <a:ext cx="546120" cy="43812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13" descr="mold001.jpg"/>
          <p:cNvPicPr/>
          <p:nvPr/>
        </p:nvPicPr>
        <p:blipFill>
          <a:blip r:embed="rId8"/>
          <a:srcRect l="24842" t="11887" r="32099" b="14856"/>
          <a:stretch/>
        </p:blipFill>
        <p:spPr>
          <a:xfrm>
            <a:off x="8121600" y="4251240"/>
            <a:ext cx="1022400" cy="95724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14" descr="mold001.jpg"/>
          <p:cNvPicPr/>
          <p:nvPr/>
        </p:nvPicPr>
        <p:blipFill>
          <a:blip r:embed="rId9"/>
          <a:srcRect l="24842" t="11887" r="24739" b="14856"/>
          <a:stretch/>
        </p:blipFill>
        <p:spPr>
          <a:xfrm>
            <a:off x="1282680" y="577800"/>
            <a:ext cx="735120" cy="58896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15" descr="mold001.jpg"/>
          <p:cNvPicPr/>
          <p:nvPr/>
        </p:nvPicPr>
        <p:blipFill>
          <a:blip r:embed="rId10"/>
          <a:srcRect l="35480" t="11887" r="24739" b="26581"/>
          <a:stretch/>
        </p:blipFill>
        <p:spPr>
          <a:xfrm>
            <a:off x="0" y="5627520"/>
            <a:ext cx="1442880" cy="123048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16" descr="mold001.jpg"/>
          <p:cNvPicPr/>
          <p:nvPr/>
        </p:nvPicPr>
        <p:blipFill>
          <a:blip r:embed="rId11"/>
          <a:srcRect l="24842" t="11887" r="24739" b="14856"/>
          <a:stretch/>
        </p:blipFill>
        <p:spPr>
          <a:xfrm>
            <a:off x="6056280" y="5634000"/>
            <a:ext cx="1214640" cy="97164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17" descr="mold001.jpg"/>
          <p:cNvPicPr/>
          <p:nvPr/>
        </p:nvPicPr>
        <p:blipFill>
          <a:blip r:embed="rId12"/>
          <a:srcRect l="24842" t="36423" r="24739" b="14856"/>
          <a:stretch/>
        </p:blipFill>
        <p:spPr>
          <a:xfrm>
            <a:off x="3486240" y="0"/>
            <a:ext cx="1280880" cy="68256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18" descr="mold001.jpg"/>
          <p:cNvPicPr/>
          <p:nvPr/>
        </p:nvPicPr>
        <p:blipFill>
          <a:blip r:embed="rId13"/>
          <a:srcRect l="24842" t="11887" r="24739" b="14856"/>
          <a:stretch/>
        </p:blipFill>
        <p:spPr>
          <a:xfrm>
            <a:off x="2868480" y="6005520"/>
            <a:ext cx="551160" cy="44136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19" descr="mold001.jpg"/>
          <p:cNvPicPr/>
          <p:nvPr/>
        </p:nvPicPr>
        <p:blipFill>
          <a:blip r:embed="rId14"/>
          <a:srcRect l="24842" t="11887" r="24739" b="14856"/>
          <a:stretch/>
        </p:blipFill>
        <p:spPr>
          <a:xfrm>
            <a:off x="8121600" y="566640"/>
            <a:ext cx="7495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9" name="Group 909"/>
          <p:cNvGrpSpPr/>
          <p:nvPr/>
        </p:nvGrpSpPr>
        <p:grpSpPr>
          <a:xfrm>
            <a:off x="1686600" y="196920"/>
            <a:ext cx="6613920" cy="372960"/>
            <a:chOff x="1686600" y="196920"/>
            <a:chExt cx="6613920" cy="372960"/>
          </a:xfrm>
        </p:grpSpPr>
        <p:sp>
          <p:nvSpPr>
            <p:cNvPr id="2770" name="TextBox 585"/>
            <p:cNvSpPr/>
            <p:nvPr/>
          </p:nvSpPr>
          <p:spPr>
            <a:xfrm>
              <a:off x="6845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TextBox 586"/>
            <p:cNvSpPr/>
            <p:nvPr/>
          </p:nvSpPr>
          <p:spPr>
            <a:xfrm>
              <a:off x="6098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TextBox 588"/>
            <p:cNvSpPr/>
            <p:nvPr/>
          </p:nvSpPr>
          <p:spPr>
            <a:xfrm>
              <a:off x="542700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TextBox 589"/>
            <p:cNvSpPr/>
            <p:nvPr/>
          </p:nvSpPr>
          <p:spPr>
            <a:xfrm>
              <a:off x="4739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TextBox 590"/>
            <p:cNvSpPr/>
            <p:nvPr/>
          </p:nvSpPr>
          <p:spPr>
            <a:xfrm>
              <a:off x="39438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TextBox 591"/>
            <p:cNvSpPr/>
            <p:nvPr/>
          </p:nvSpPr>
          <p:spPr>
            <a:xfrm>
              <a:off x="3227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TextBox 592"/>
            <p:cNvSpPr/>
            <p:nvPr/>
          </p:nvSpPr>
          <p:spPr>
            <a:xfrm>
              <a:off x="2498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TextBox 593"/>
            <p:cNvSpPr/>
            <p:nvPr/>
          </p:nvSpPr>
          <p:spPr>
            <a:xfrm>
              <a:off x="1686600" y="1969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TextBox 1113"/>
            <p:cNvSpPr/>
            <p:nvPr/>
          </p:nvSpPr>
          <p:spPr>
            <a:xfrm>
              <a:off x="7452360" y="20160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n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9" name="TextBox 1114"/>
          <p:cNvSpPr/>
          <p:nvPr/>
        </p:nvSpPr>
        <p:spPr>
          <a:xfrm>
            <a:off x="75034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NARY SPRITE DE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TextBox 1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TextBox 1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TextBox 1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TextBox 1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TextBox 1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TextBox 1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TextBox 2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TextBox 2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TextBox 2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TextBox 2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TextBox 2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TextBox 2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TextBox 2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TextBox 2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TextBox 2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TextBox 2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TextBox 2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TextBox 2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TextBox 2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TextBox 2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TextBox 2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TextBox 2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TextBox 2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TextBox 2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TextBox 2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TextBox 2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TextBox 2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TextBox 2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TextBox 2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TextBox 2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TextBox 2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TextBox 2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TextBox 2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TextBox 2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TextBox 2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TextBox 2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TextBox 2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TextBox 2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TextBox 2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TextBox 2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TextBox 2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TextBox 2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TextBox 2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TextBox 2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TextBox 2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TextBox 2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TextBox 2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TextBox 2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TextBox 2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TextBox 2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TextBox 2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TextBox 2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TextBox 2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TextBox 2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TextBox 2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TextBox 2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TextBox 2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TextBox 2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TextBox 2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TextBox 2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TextBox 2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TextBox 2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TextBox 2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TextBox 2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TextBox 2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TextBox 2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TextBox 2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TextBox 2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TextBox 2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TextBox 2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TextBox 2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TextBox 2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TextBox 2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TextBox 2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TextBox 2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TextBox 2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TextBox 2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TextBox 2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TextBox 2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TextBox 2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TextBox 2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TextBox 2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TextBox 2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TextBox 2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TextBox 2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TextBox 2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TextBox 2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TextBox 2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TextBox 2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TextBox 2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TextBox 2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TextBox 2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TextBox 2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TextBox 2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TextBox 2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TextBox 2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TextBox 2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TextBox 2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TextBox 2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TextBox 2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TextBox 2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TextBox 2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TextBox 2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TextBox 2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TextBox 2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TextBox 2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TextBox 3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TextBox 3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TextBox 3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TextBox 3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3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TextBox 3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TextBox 3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TextBox 3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TextBox 3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TextBox 3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TextBox 3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TextBox 3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TextBox 3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TextBox 3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TextBox 3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TextBox 3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TextBox 3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TextBox 3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TextBox 3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TextBox 3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TextBox 3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TextBox 3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TextBox 3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TextBox 3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TextBox 3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TextBox 3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TextBox 3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TextBox 3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TextBox 3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TextBox 3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TextBox 3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TextBox 3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TextBox 3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TextBox 3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TextBox 3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TextBox 3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TextBox 3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TextBox 3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TextBox 3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TextBox 3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TextBox 3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TextBox 3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TextBox 3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TextBox 3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TextBox 3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TextBox 3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TextBox 3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TextBox 3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TextBox 3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3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TextBox 3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TextBox 3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TextBox 3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TextBox 3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TextBox 3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TextBox 3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TextBox 3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TextBox 3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TextBox 3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TextBox 3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Box 3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TextBox 3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TextBox 3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TextBox 3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TextBox 3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TextBox 3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TextBox 3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TextBox 3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TextBox 3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TextBox 3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TextBox 3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TextBox 3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TextBox 3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TextBox 3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TextBox 3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TextBox 3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TextBox 3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TextBox 3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TextBox 3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TextBox 3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TextBox 3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TextBox 3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TextBox 3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TextBox 3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TextBox 3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TextBox 3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TextBox 3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TextBox 3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TextBox 3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TextBox 3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TextBox 3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TextBox 3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TextBox 3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TextBox 3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TextBox 3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TextBox 3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TextBox 3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TextBox 3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TextBox 3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TextBox 3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TextBox 4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TextBox 4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TextBox 4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TextBox 4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TextBox 4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TextBox 4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TextBox 4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TextBox 4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TextBox 4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TextBox 4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TextBox 4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TextBox 4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TextBox 4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TextBox 4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TextBox 4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TextBox 4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TextBox 4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TextBox 4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TextBox 4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TextBox 4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TextBox 4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TextBox 4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TextBox 4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TextBox 4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TextBox 4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TextBox 4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TextBox 4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TextBox 4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TextBox 4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TextBox 4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TextBox 4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TextBox 4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TextBox 4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TextBox 4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Box 4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Box 4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TextBox 4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TextBox 4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TextBox 4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TextBox 4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TextBox 4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TextBox 4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TextBox 4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TextBox 4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TextBox 4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TextBox 4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TextBox 4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TextBox 4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TextBox 4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TextBox 4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TextBox 4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TextBox 4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TextBox 4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TextBox 4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TextBox 4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TextBox 4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TextBox 4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TextBox 4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TextBox 4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TextBox 4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TextBox 4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TextBox 4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TextBox 4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TextBox 4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TextBox 4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TextBox 4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TextBox 4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TextBox 4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TextBox 4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TextBox 4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TextBox 4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TextBox 4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TextBox 4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TextBox 47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TextBox 47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TextBox 47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TextBox 47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TextBox 47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TextBox 47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TextBox 47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TextBox 48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TextBox 48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TextBox 48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TextBox 48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TextBox 48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TextBox 48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TextBox 48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TextBox 48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TextBox 48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TextBox 48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TextBox 49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TextBox 49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TextBox 49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TextBox 49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TextBox 49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TextBox 49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TextBox 49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TextBox 49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TextBox 49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TextBox 49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TextBox 50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TextBox 50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TextBox 50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TextBox 50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TextBox 50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TextBox 50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TextBox 50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TextBox 50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TextBox 50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TextBox 50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TextBox 51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TextBox 51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TextBox 51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TextBox 51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TextBox 51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TextBox 51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TextBox 51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TextBox 51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TextBox 51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TextBox 51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TextBox 52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TextBox 52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TextBox 52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TextBox 52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TextBox 52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TextBox 52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TextBox 52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TextBox 52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TextBox 52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TextBox 52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TextBox 53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TextBox 53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TextBox 53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TextBox 53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TextBox 53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TextBox 53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TextBox 53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TextBox 53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TextBox 53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TextBox 53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TextBox 54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TextBox 54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TextBox 54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TextBox 54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TextBox 54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TextBox 54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TextBox 54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TextBox 54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TextBox 54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TextBox 54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TextBox 55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TextBox 55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TextBox 55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TextBox 55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TextBox 55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TextBox 55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TextBox 55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TextBox 55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TextBox 55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TextBox 55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TextBox 56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TextBox 56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TextBox 56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TextBox 563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TextBox 564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TextBox 565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TextBox 566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TextBox 567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TextBox 568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TextBox 569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TextBox 570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TextBox 571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TextBox 572"/>
          <p:cNvSpPr/>
          <p:nvPr/>
        </p:nvSpPr>
        <p:spPr>
          <a:xfrm>
            <a:off x="152280" y="601992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TextBox 5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TextBox 5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TextBox 5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TextBox 5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TextBox 5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TextBox 5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TextBox 5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TextBox 6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TextBox 6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TextBox 6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TextBox 6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TextBox 6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TextBox 6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TextBox 6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TextBox 6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TextBox 6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TextBox 6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TextBox 6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TextBox 6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TextBox 6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TextBox 6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TextBox 6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TextBox 6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TextBox 6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TextBox 6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TextBox 6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TextBox 6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TextBox 6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TextBox 6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TextBox 6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TextBox 6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TextBox 6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TextBox 6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TextBox 6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TextBox 6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TextBox 6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TextBox 6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TextBox 6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TextBox 6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TextBox 6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TextBox 6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TextBox 6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TextBox 6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TextBox 6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TextBox 6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TextBox 6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TextBox 6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TextBox 6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TextBox 6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TextBox 6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TextBox 6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TextBox 6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TextBox 6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TextBox 6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TextBox 6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TextBox 6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TextBox 6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TextBox 6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TextBox 6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TextBox 6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TextBox 6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TextBox 6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TextBox 6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TextBox 6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TextBox 6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TextBox 6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TextBox 6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TextBox 6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TextBox 6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TextBox 6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TextBox 6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TextBox 6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TextBox 6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TextBox 6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TextBox 6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TextBox 6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TextBox 6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TextBox 6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TextBox 6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TextBox 6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TextBox 6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TextBox 6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TextBox 6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TextBox 6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TextBox 6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TextBox 6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TextBox 6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TextBox 6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TextBox 6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TextBox 6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TextBox 6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TextBox 6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TextBox 6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TextBox 6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TextBox 6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TextBox 6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TextBox 6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TextBox 6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TextBox 6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TextBox 7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TextBox 7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TextBox 7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TextBox 7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TextBox 7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TextBox 7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TextBox 7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TextBox 7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TextBox 7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TextBox 7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TextBox 7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TextBox 7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TextBox 7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TextBox 7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TextBox 7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TextBox 7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TextBox 7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TextBox 7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TextBox 7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TextBox 7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TextBox 7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TextBox 7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TextBox 7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TextBox 7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TextBox 7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TextBox 7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TextBox 7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TextBox 7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TextBox 7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TextBox 7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TextBox 7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TextBox 7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TextBox 7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TextBox 7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2" name="TextBox 7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TextBox 7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TextBox 7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TextBox 7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TextBox 7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TextBox 7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TextBox 7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TextBox 7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TextBox 7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TextBox 7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TextBox 7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TextBox 7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TextBox 7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TextBox 7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TextBox 7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TextBox 7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TextBox 7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TextBox 7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TextBox 7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TextBox 7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TextBox 7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TextBox 7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TextBox 7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TextBox 7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TextBox 7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TextBox 7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TextBox 7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TextBox 7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TextBox 7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TextBox 7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TextBox 7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TextBox 7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TextBox 7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TextBox 7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TextBox 7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TextBox 7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TextBox 7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TextBox 7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TextBox 7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TextBox 7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TextBox 7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TextBox 7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TextBox 7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TextBox 7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TextBox 7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TextBox 7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TextBox 7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TextBox 7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TextBox 7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TextBox 7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TextBox 7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TextBox 7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TextBox 7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5" name="TextBox 7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TextBox 7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7" name="TextBox 7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TextBox 7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9" name="TextBox 7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TextBox 7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TextBox 7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2" name="TextBox 7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TextBox 7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TextBox 7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TextBox 7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TextBox 7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TextBox 7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TextBox 8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TextBox 8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TextBox 8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1" name="TextBox 8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TextBox 8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TextBox 8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TextBox 8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TextBox 8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TextBox 8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TextBox 8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TextBox 8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TextBox 8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TextBox 8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TextBox 8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TextBox 8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3" name="TextBox 8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TextBox 8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TextBox 8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TextBox 8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7" name="TextBox 8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TextBox 8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TextBox 8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TextBox 8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1" name="TextBox 8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TextBox 8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TextBox 8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TextBox 8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TextBox 8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TextBox 8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TextBox 8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TextBox 8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TextBox 8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TextBox 8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1" name="TextBox 8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TextBox 8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TextBox 8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TextBox 8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TextBox 8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TextBox 8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7" name="TextBox 8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TextBox 8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TextBox 8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0" name="TextBox 8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1" name="TextBox 8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TextBox 8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TextBox 8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4" name="TextBox 8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TextBox 8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TextBox 8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TextBox 8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TextBox 8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TextBox 8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TextBox 8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TextBox 8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TextBox 8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TextBox 8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TextBox 8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5" name="TextBox 8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TextBox 8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TextBox 8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8" name="TextBox 8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TextBox 8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0" name="TextBox 8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1" name="TextBox 8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2" name="TextBox 8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3" name="TextBox 8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TextBox 8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TextBox 8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TextBox 8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7" name="TextBox 8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TextBox 8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TextBox 8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0" name="TextBox 8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TextBox 8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TextBox 8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TextBox 8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TextBox 8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5" name="TextBox 8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Box 8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TextBox 8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TextBox 8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9" name="TextBox 8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0" name="TextBox 8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1" name="TextBox 8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TextBox 8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TextBox 8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4" name="TextBox 8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Box 8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TextBox 8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TextBox 8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8" name="TextBox 8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9" name="TextBox 8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TextBox 8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TextBox 8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2" name="TextBox 8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TextBox 8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TextBox 8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TextBox 8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6" name="TextBox 8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7" name="TextBox 8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TextBox 9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TextBox 9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TextBox 9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TextBox 9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TextBox 9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TextBox 9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TextBox 9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TextBox 9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TextBox 9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TextBox 9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TextBox 9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TextBox 9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TextBox 9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TextBox 9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TextBox 9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TextBox 9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TextBox 9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5" name="TextBox 9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6" name="TextBox 9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TextBox 9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TextBox 9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TextBox 9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TextBox 9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TextBox 9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TextBox 9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3" name="TextBox 9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4" name="TextBox 9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5" name="TextBox 9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TextBox 9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TextBox 9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8" name="TextBox 9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9" name="TextBox 9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0" name="TextBox 9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TextBox 9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TextBox 9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3" name="TextBox 9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TextBox 9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TextBox 9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TextBox 9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7" name="TextBox 9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TextBox 9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TextBox 9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0" name="TextBox 9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TextBox 9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TextBox 9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TextBox 9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TextBox 9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5" name="TextBox 9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TextBox 9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TextBox 9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TextBox 9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TextBox 9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TextBox 9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TextBox 9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TextBox 9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TextBox 9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TextBox 9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TextBox 9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TextBox 9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TextBox 9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8" name="TextBox 9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9" name="TextBox 9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0" name="TextBox 9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1" name="TextBox 9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TextBox 9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TextBox 9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TextBox 9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5" name="TextBox 9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TextBox 9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TextBox 9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TextBox 9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9" name="TextBox 9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0" name="TextBox 9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TextBox 9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TextBox 9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3" name="TextBox 9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4" name="TextBox 9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TextBox 9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TextBox 9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7" name="TextBox 9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8" name="TextBox 9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TextBox 9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TextBox 9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1" name="TextBox 9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2" name="TextBox 9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TextBox 9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4" name="TextBox 9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5" name="TextBox 9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TextBox 9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7" name="TextBox 9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TextBox 9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TextBox 9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TextBox 9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TextBox 9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TextBox 9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TextBox 9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TextBox 9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TextBox 9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TextBox 9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7" name="TextBox 9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8" name="TextBox 10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9" name="TextBox 10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TextBox 100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TextBox 100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TextBox 100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TextBox 100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4" name="TextBox 100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5" name="TextBox 100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TextBox 100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00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TextBox 101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TextBox 101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TextBox 101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1" name="TextBox 101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2" name="TextBox 101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101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101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TextBox 101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TextBox 101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TextBox 101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TextBox 102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TextBox 102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TextBox 102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TextBox 102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TextBox 102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TextBox 102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TextBox 102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TextBox 102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TextBox 102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TextBox 102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103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103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103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103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103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103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103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103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TextBox 103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7" name="TextBox 103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8" name="TextBox 104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TextBox 104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0" name="TextBox 104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1" name="TextBox 104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TextBox 104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TextBox 104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TextBox 104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TextBox 104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TextBox 104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TextBox 104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TextBox 105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TextBox 105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TextBox 105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TextBox 105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TextBox 105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TextBox 105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TextBox 105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TextBox 105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TextBox 105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TextBox 105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Box 106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TextBox 106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TextBox 106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TextBox 106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TextBox 106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TextBox 106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TextBox 106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TextBox 106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TextBox 106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TextBox 106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TextBox 107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TextBox 107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TextBox 107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TextBox 107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TextBox 107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TextBox 107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TextBox 107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TextBox 107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TextBox 107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TextBox 107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TextBox 108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TextBox 108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Box 108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Box 108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TextBox 108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TextBox 108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TextBox 108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TextBox 108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TextBox 108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TextBox 108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TextBox 109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TextBox 109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TextBox 1092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TextBox 1093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TextBox 1094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TextBox 1095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TextBox 1096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TextBox 1097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TextBox 1098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TextBox 1099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TextBox 1100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TextBox 1101"/>
          <p:cNvSpPr/>
          <p:nvPr/>
        </p:nvSpPr>
        <p:spPr>
          <a:xfrm>
            <a:off x="8305920" y="6019920"/>
            <a:ext cx="7207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0" name="Group 909"/>
          <p:cNvGrpSpPr/>
          <p:nvPr/>
        </p:nvGrpSpPr>
        <p:grpSpPr>
          <a:xfrm>
            <a:off x="1686600" y="196920"/>
            <a:ext cx="6613920" cy="372960"/>
            <a:chOff x="1686600" y="196920"/>
            <a:chExt cx="6613920" cy="372960"/>
          </a:xfrm>
        </p:grpSpPr>
        <p:sp>
          <p:nvSpPr>
            <p:cNvPr id="3671" name="TextBox 585"/>
            <p:cNvSpPr/>
            <p:nvPr/>
          </p:nvSpPr>
          <p:spPr>
            <a:xfrm>
              <a:off x="6845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Box 586"/>
            <p:cNvSpPr/>
            <p:nvPr/>
          </p:nvSpPr>
          <p:spPr>
            <a:xfrm>
              <a:off x="6098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Box 588"/>
            <p:cNvSpPr/>
            <p:nvPr/>
          </p:nvSpPr>
          <p:spPr>
            <a:xfrm>
              <a:off x="542700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4" name="TextBox 589"/>
            <p:cNvSpPr/>
            <p:nvPr/>
          </p:nvSpPr>
          <p:spPr>
            <a:xfrm>
              <a:off x="4739040" y="1969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5" name="TextBox 590"/>
            <p:cNvSpPr/>
            <p:nvPr/>
          </p:nvSpPr>
          <p:spPr>
            <a:xfrm>
              <a:off x="39438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6" name="TextBox 591"/>
            <p:cNvSpPr/>
            <p:nvPr/>
          </p:nvSpPr>
          <p:spPr>
            <a:xfrm>
              <a:off x="3227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7" name="TextBox 592"/>
            <p:cNvSpPr/>
            <p:nvPr/>
          </p:nvSpPr>
          <p:spPr>
            <a:xfrm>
              <a:off x="2498400" y="1969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8" name="TextBox 593"/>
            <p:cNvSpPr/>
            <p:nvPr/>
          </p:nvSpPr>
          <p:spPr>
            <a:xfrm>
              <a:off x="1686600" y="1969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9" name="TextBox 1113"/>
            <p:cNvSpPr/>
            <p:nvPr/>
          </p:nvSpPr>
          <p:spPr>
            <a:xfrm>
              <a:off x="7452360" y="20160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n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0" name="TextBox 1114"/>
          <p:cNvSpPr/>
          <p:nvPr/>
        </p:nvSpPr>
        <p:spPr>
          <a:xfrm>
            <a:off x="7503480" y="71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TextBox 1122"/>
          <p:cNvSpPr/>
          <p:nvPr/>
        </p:nvSpPr>
        <p:spPr>
          <a:xfrm>
            <a:off x="7503480" y="14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TextBox 1123"/>
          <p:cNvSpPr/>
          <p:nvPr/>
        </p:nvSpPr>
        <p:spPr>
          <a:xfrm>
            <a:off x="7503480" y="2179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TextBox 1124"/>
          <p:cNvSpPr/>
          <p:nvPr/>
        </p:nvSpPr>
        <p:spPr>
          <a:xfrm>
            <a:off x="7503480" y="2911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TextBox 1125"/>
          <p:cNvSpPr/>
          <p:nvPr/>
        </p:nvSpPr>
        <p:spPr>
          <a:xfrm>
            <a:off x="7503480" y="3641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TextBox 1126"/>
          <p:cNvSpPr/>
          <p:nvPr/>
        </p:nvSpPr>
        <p:spPr>
          <a:xfrm>
            <a:off x="7503480" y="510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TextBox 1127"/>
          <p:cNvSpPr/>
          <p:nvPr/>
        </p:nvSpPr>
        <p:spPr>
          <a:xfrm>
            <a:off x="7503480" y="5835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TextBox 1128"/>
          <p:cNvSpPr/>
          <p:nvPr/>
        </p:nvSpPr>
        <p:spPr>
          <a:xfrm>
            <a:off x="7503480" y="437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TextBox 1129"/>
          <p:cNvSpPr/>
          <p:nvPr/>
        </p:nvSpPr>
        <p:spPr>
          <a:xfrm>
            <a:off x="2057400" y="64008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NARY SPRITE DE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TextBox 1130"/>
          <p:cNvSpPr/>
          <p:nvPr/>
        </p:nvSpPr>
        <p:spPr>
          <a:xfrm>
            <a:off x="836208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TextBox 1131"/>
          <p:cNvSpPr/>
          <p:nvPr/>
        </p:nvSpPr>
        <p:spPr>
          <a:xfrm>
            <a:off x="196560" y="5235480"/>
            <a:ext cx="63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DR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5:40:50Z</dcterms:created>
  <dc:creator>Gary Setchell</dc:creator>
  <dc:description/>
  <dc:language>en-US</dc:language>
  <cp:lastModifiedBy>Gary Setchell</cp:lastModifiedBy>
  <dcterms:modified xsi:type="dcterms:W3CDTF">2014-11-12T16:11:15Z</dcterms:modified>
  <cp:revision>55</cp:revision>
  <dc:subject/>
  <dc:title>Slide 1</dc:title>
</cp:coreProperties>
</file>